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D200-61F6-46DD-BDBA-0057B4AA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E57-A0B7-439F-9DC3-C7EA547D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521-08C9-424A-8F6F-D382CF45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9981-F2F2-43AB-A444-2779BE26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C82-3822-4C15-AACB-D01265F5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815F-D0C4-4801-8009-2B4A4D31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CEA-37A9-4AE1-AF31-0CEDF9A7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CFE-E10A-4817-81F6-14CE633C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7C1-043E-41F0-BFE4-B49D0628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CB2-301D-455E-8386-1EE33ED2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04B-0A93-4DB4-B639-A79CE9B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7CC-ADF3-4E90-B972-5DFB980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2696D-CC9A-445C-9302-7D6D52E3E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1012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S Summe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046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promot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76360" y="822240"/>
            <a:ext cx="450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ideas do we have as a whole group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611280" y="800280"/>
            <a:ext cx="456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 with your team:  Which project on the paper, or that has been discussed do you want to t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658800" y="822240"/>
            <a:ext cx="477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you have 20 minutes to do something with your ide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may go to another room, or stay here, and using the supplies provided, make something to promote summer reading to your te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635040" y="811080"/>
            <a:ext cx="47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share what you have do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23880" y="846000"/>
            <a:ext cx="4643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d it feel to do this activity?  You watched a video, talked with colleagues, and did a project together with a common go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00:00:46Z</dcterms:created>
  <dc:creator>John Chapman</dc:creator>
  <dc:description/>
  <dc:language>en-US</dc:language>
  <cp:lastModifiedBy>John Chapman</cp:lastModifiedBy>
  <dcterms:modified xsi:type="dcterms:W3CDTF">2012-05-03T00:32:38Z</dcterms:modified>
  <cp:revision>3</cp:revision>
  <dc:subject/>
  <dc:title>AMS Summer Reading</dc:title>
</cp:coreProperties>
</file>